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A5B-D549-43C7-B908-1401AA76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033-2350-4B3D-AB2B-EA55B8C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EC9-F40C-46E4-BA9B-A5DBA815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D26-52D1-4A69-87A8-8722754D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DA0-480B-42A3-9A64-1654756E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D178-020A-4843-B4A5-AF3D4408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C6B1-F798-4F09-9F0E-328A7C5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8703-C19A-4D7E-9ECD-F7CD194A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1BF-68D0-48CD-804B-878B4786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73A5-99BE-40FD-8E32-3F6F78F9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9960-7F36-4C08-BDBA-70D09E7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AEE-778A-494D-B45B-0E2A4445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917B-9FE4-4232-8C1C-39BCFDE3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023B-1E7D-44E2-B98E-CB61710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7A6-50AC-409A-8918-26AAB7D7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318A-14E4-4C69-A79B-4C437163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AE7D-D998-4067-A2AD-65D927C1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E57-6E70-4F6D-8A10-A103B42E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A17-81B4-414A-B52F-B9B8083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DFC-FDC2-49AA-BBB8-8059C02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388-3932-4B1F-BF27-211B359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938-13DD-469E-A0D2-CAAE92E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7D2-D80E-43C1-BD82-E30B205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B22-2613-4B8A-A7EF-10F4E8C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CCC-C232-46E3-8BFA-8EFE507479FB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50F0-FD3C-4F05-932E-A0992D7F12DD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Ecstasy (Êxtas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Sintetizada e patenteada em 1914 por um laboratório alem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Droga conhecida como MetilenodioxiMetAnfetamina (MDMA), desenvolvida para ser moderador de apeti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É um coquetel produzido a partir de anfetaminas e alucinógen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PCP ou fenciclidina (pó-de-anjo), alucinógeno mais adulterado. Era usado na veterinária, mas a frequência e a gravidade de seus efeitos tóxicos limitou-lhe o us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 fornecimento de PCP é ilegal; ele pode ser fumado, inalado, ingerido ou injetado. Seus efeitos são: dissociação físico-psíquica e privação sensorial. Distorce as mensagens sensoriais enviadas ao sistema nervoso central, suspende a inibição e amortece a dor e eleva a pressão sanguíne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oses moderadas incapacitam a fala, provocam atitude rígida de robô, confunde e agita. Doses mais fortes podem causar catatonia ( tipo de esquizofrenia caracterizado por períodos de negativismo, excitação e atitudes ou atividades estereotipadas, ou seja, fixas, que não variam), coma, convulsões, depressão respiratória, insensibilidade cardiovascular, além de produzir amnésia enquanto dura o efeito ( de 2 a 48 horas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 PCP é retido pelo organismo durante meses em células adiposas e pode ser liberado durante exercícios ou jejum, quando retorna em sua forma de agente químico, voltando a circular pelo corpo. Não é muito procurado por ser associado à “viagens ruins”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66ff33"/>
                </a:solidFill>
                <a:latin typeface="Times New Roman"/>
              </a:rPr>
              <a:t>Anticolinérg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Arial"/>
                <a:ea typeface="Arial"/>
              </a:rPr>
              <a:t>Incluem nesse grupo a planta trombeteira ou lírio e os medicamentos Artame, Akineton e Bentyl, drogas que são capazes de, em doses elevadas, produzir, além dos efeitos no nosso corpo, alterações em nossas funções psíqu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Assim, as pupilas ficam muito dilatadas, a boca seca e o coração pode disparar, sintomas esses que são acompanhados de alucinações provocadas por alterações mentais do tipo percepção mental sem objeto (ver ratos, índios e estrelas quando esses objetos não existem, por exemplo). Os intestinos ficam paralisados (são usados medicamente como antidiarréicos) e a bexiga fica “preguiçosa” ou há retenção de uri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Os anticolinérgicos podem produzir, em doses elevadas, grande elevação da temperatura corporal que chega, às vezes até 40-41</a:t>
            </a:r>
            <a:r>
              <a:rPr b="0" lang="pt-BR" sz="2800" spc="-1" strike="noStrike">
                <a:solidFill>
                  <a:srgbClr val="66ff33"/>
                </a:solidFill>
                <a:latin typeface="Symbol"/>
                <a:ea typeface="Symbol"/>
              </a:rPr>
              <a:t></a:t>
            </a: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 C. Nestes casos, felizmente não muito comuns, a pessoa apresenta-se com a pele muito seca e quente, com vermelhidão, principalmente no rosto e pescoç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ff33"/>
                </a:solidFill>
                <a:latin typeface="Arial"/>
                <a:ea typeface="Arial"/>
              </a:rPr>
              <a:t>O abuso de anticolinérgicos é relativamente comum no Brasil e tem sido responsável por internações de emergência. O Artame chega a ser a terceira droga mais usada pelos meninos de rua (após os inalantes e a maconha). Essas drogas não desenvolvem tolerância e não há descrição de síndrome de abstinê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voca dependência psíquica e pode levar à m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É conhecida como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roga do amor –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osto afrodisíaco – provoca excitação quase incontrolável no usuár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flora a libi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nsação de bem-est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menta o desejo, mas prejudica o desempenho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homem diminui em 50% a capacidade de ereção e torna o orgasmo difíc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120" y="53352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 combinação da droga com a música produz um estado de transe similar ao experimentado em rituais tribais ou em cerimônias religios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Os efeitos são percebidos em torno de 30 min, já que leva algum tempo para a droga atingir o S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 substância aumenta a concentração de serotonina (ligada a sensações amorosas) e de dopamina (anestésico natura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barato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pode durar até 8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m primeiro momento, o usuário fica falante, feliz, seguro de si, receptivo ao contato social e com sensualidade em alt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cc00"/>
                </a:solidFill>
                <a:uFillTx/>
                <a:latin typeface="Times New Roman"/>
              </a:rPr>
              <a:t>Não se anime</a:t>
            </a:r>
            <a:r>
              <a:rPr b="0" lang="pt-BR" sz="2800" spc="-1" strike="noStrike" u="sng">
                <a:solidFill>
                  <a:srgbClr val="00cc00"/>
                </a:solidFill>
                <a:uFillTx/>
                <a:latin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ais efeitos, porém, são passageiros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Durante a “viagem” são freqüentes acidentes como insuficiência hepática e renal, convulsões, hemorragia cerebral até morte súb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0" i="1" lang="pt-BR" sz="2800" spc="-1" strike="noStrike">
                <a:solidFill>
                  <a:srgbClr val="ffff00"/>
                </a:solidFill>
                <a:latin typeface="Times New Roman"/>
              </a:rPr>
              <a:t>revertério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deve-se ao aumento de temperatura (chega até 42º), seguido de sudorese e desequilíbrio hidroeletrolít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É conveniente relatar casos de dois usuários que morreram por excesso de consumo de água – um chegou a beber 14L de água: essa droga desequilibra o sistema antidiurético.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pessoas morrem por reações alérgi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mortes são causadas, principalmente, quando o ecstasy é usado em associação com outras drogas como a cocaína e o álco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Quando não mata, pode causar distúrbios como a síndrome do pânico, depressão, déficit de memória, delírios e alucinaçõ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lucinógen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22093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LSD (dietilamida do ácido lisérgic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Mescalina (extraída do cacto peiot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Psilocibina (obtida de um cogumelo mexican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Vinho de Jurema (preparado à base da planta brasileira </a:t>
            </a:r>
            <a:r>
              <a:rPr b="0" i="1" lang="pt-BR" sz="3200" spc="-1" strike="noStrike">
                <a:solidFill>
                  <a:srgbClr val="66ff33"/>
                </a:solidFill>
                <a:latin typeface="Times New Roman"/>
              </a:rPr>
              <a:t>Mimosa hostil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33"/>
                </a:solidFill>
                <a:latin typeface="Times New Roman"/>
              </a:rPr>
              <a:t>Caapri e chacrona (plantas alucinógenas utilizadas juntamente com bebid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3055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Muitas vezes, as alucinações consistem de pesadelos aterrorizantes, acompanhados de sentimentos de medo e de pânico, com impulsos violentos e suicid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Há dependência psíquica em graus variáve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A tolerância desenvolve rapidamente, embora desapareça rápido ao cessar o u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Não há desenvolvimento da síndrome da abstinê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Pode ocorrer síntomas físicos pouco salientes como dilatação das pupilas, suor excessivo, taquicardia e náuseas seguidas de vômi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LSD provoca lesões nos cromossomos das células nervosas, nos glóbulos do sangue e nas células reprodutoras, pode causar danos não somente ao organismo de quem usa, mas também, aos filhos que venha a 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ido à perturbação psíquica promovida pelo LSD-25, há perda da habilidade  de perceber e avaliar situações comuns de perig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66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manas ou até meses após experiências com LSD, a pessoa repentinamente passa a ter todos os sintomas psíquicos daquela experiência anterior, isto é, sem ter tomado de novo a drog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A psilocibina é um ingrediente ativo de numerosos cogumelos alucinógenos mexicano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s efeitos psíquicos duram de 5 a 6 horas, dependendo da quantidade usada, geralmente de 20 a 60 m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Arial"/>
                <a:ea typeface="Arial"/>
              </a:rPr>
              <a:t>Os cogumelos causam náuseas, vômitos, perturbações neurovegetativas, pulso lento, perturbações vasomotoras e neuro-sensoriais e sensações de vertigem. Aparecem mal-estar, cansaço e sonolência, seguidos de estados de super-excitação, euforia, paz interior e necessidade de movimento. Terminado o ciclo, o usuário volta ao seu estado de consciência normal, guardando lembrança mais ou menos precisa de sua experiênci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09:16:15Z</dcterms:created>
  <dc:creator>Carlos &amp; Regina</dc:creator>
  <dc:description/>
  <dc:language>en-US</dc:language>
  <cp:lastModifiedBy>LEO</cp:lastModifiedBy>
  <dcterms:modified xsi:type="dcterms:W3CDTF">2000-09-07T12:47:55Z</dcterms:modified>
  <cp:revision>19</cp:revision>
  <dc:subject/>
  <dc:title>Inalantes, solventes e voláteis</dc:title>
</cp:coreProperties>
</file>